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AB06-65C0-4140-9F7C-1661D0B83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6B8-7AD0-4FBA-B011-7D392AD3B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CF3-FCDF-4241-9763-829198B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0E0-CA48-467A-939E-38F638E1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A97-D463-4A72-9A90-4DED2FC6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042-1E1F-4169-AE56-AA752497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571-3B71-4AB0-9375-4F49F4B3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AEB-9A88-4B9C-9079-F0A5F54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591-C716-4BD7-8DC2-1309388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D43-7695-47BA-B668-3E355E3D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B95-D5CB-4DE1-930B-04D5AF5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F1A-0B1D-494B-A9C4-BB480BB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834-6A3D-492A-922C-6030CCCF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258-5F3F-4BEA-A8B7-53CEE23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601F-B03F-44AF-B8E2-3B6CB5D71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Web for IQ 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. Leptouk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th Science Information Partners (ESIP) Federation IQ clus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7800" indent="-307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ring together people from various disciplines to assess aspects of quality of remote sensing d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and share bes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framework for consistent capture, harmonization and presentation of data quality for the purposes of climate change studies, earth science and applic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ptoukh, Pecora'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038-1D03-47D7-B9AF-B84B20DB7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6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hy so difficul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Qualit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erceived differentl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y data providers and data recipi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oo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many different qualitative and quantitative asp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of quality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 comprehensiv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ramework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remote sensing Level 2 and higher data qual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 common terminolog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r even wors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, the same term used for different thing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 preferred methodolog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 solving many data quality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ach science team handled quality different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Data quality aspect had lower prior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than building an instrument, launching a rocket, collecting/processing data, and publishing a paper using these da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ptoukh, Pecora'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9F9-77FA-460D-8287-E3E4D00BD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6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quality and why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many data to choose from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s need to be able to decide which data product to choose for their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ould you switch from Tylenol to aspirin or ibuprof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49612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895480" y="5410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and or generic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eneral Quality Indicators (Q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se are objective (computable) aspects of data and prov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Common across many discipl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me of them might be called ‘figures of merit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sers of data, depending on usage, assert quality of data from these Q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ame QI might be consider “good” for one usage and “bad” for another – “somebody’s trash is another’s treasur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ptoukh, Pecora'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F030-14C5-491F-8BF9-09B715A8F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6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Quality Ontology +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lasses, dimensions… indic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 vocabulary (ISO docs do hel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te and establish rela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rules wher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into semantic web and integrate into re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ate a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s across various disciplines are not coordinated … besides the ESIP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a deposit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ing the matter specialists, the real scientists, is a real challenge. The mentality needed for working on developing data quality framework is very different from a “regular” research ment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4:10:32Z</dcterms:created>
  <dc:creator>Leptoukh</dc:creator>
  <dc:description/>
  <dc:language>en-US</dc:language>
  <cp:lastModifiedBy>Leptoukh</cp:lastModifiedBy>
  <dcterms:modified xsi:type="dcterms:W3CDTF">2011-12-03T03:44:56Z</dcterms:modified>
  <cp:revision>4</cp:revision>
  <dc:subject/>
  <dc:title>Semantic Web for IQ</dc:title>
</cp:coreProperties>
</file>